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6569-2A36-4377-A1AB-4737397C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zotech, L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37E-74B8-4B96-80BC-24B8D6EF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D85-B159-42B1-88F4-0AF38C0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6BA-2D3D-4BA1-845E-8C5DFC9F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A40-FB5B-4ED4-B0A6-B772DF59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8ECF-BA2C-4337-8FB2-95A7C4BD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0C9-96B5-449D-8C54-EE1FF904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B1D-C2B9-4230-BC7F-F314697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AE5-A114-4E2B-A24B-75A04735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AA1-1003-457A-B2B4-BC61A16F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10F-3031-499A-A15B-F7223862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E391-5E24-4EDA-8BF5-431BF50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555-B784-4B87-904E-BD639EE8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E70-7354-4923-91EE-69CC722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BA0-4155-417E-8A83-79FA4E99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CEA1-6644-4D8E-8762-92565C87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C4A1-4F9B-42E1-9015-B86AD12D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37E0-2286-4F62-96DE-0599663D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C74-8D85-44B8-B59A-6D2647F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671-23B3-4B42-A47F-4E8D7CB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467-F6DA-4010-833F-BDCB4148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872-B9C7-4D87-ADD2-12585A18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556-9994-4500-B932-A12FCA3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963-B21E-4526-944E-CA05098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98F-A217-48AE-B572-6D7E6B63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2A0-0873-4AD5-B7BC-97E9605E05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725E-D069-4D2E-9C47-CE399E6C1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FDAC-A65E-4330-8BFD-66A76E61093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E490-F35B-49BF-A94D-6B2D181BF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novative High Drive Piezoelectric Ceramic for Use in High Power Transducer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           Piezotech, LL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7239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Liufu, Jared Brosch, Andreas Hadjicostis, William Shelley, Michael Phillips, Craig Mi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0F3-DA93-44E1-B0F5-C20F68C2A80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5ADF46-4FC4-4F44-9706-6FC978CD6E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52880" y="762120"/>
            <a:ext cx="4191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alon Standard QI-40 40Khz Cleaning/Shaking device shown with some example hor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337356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9625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mm 1.5Mhz Air backed transdu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t for Total Acoustic Power measu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transducers may be applicable in both medical and industrial set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D8F-12D2-45E4-B762-E9E61015EEB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649AE-9691-4092-A0EA-C2D10DCE8C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54100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33Ohms, - 51deg. Coupled into Wa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marker chosen at peak Conduc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5051520" cy="463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I-40 with K-2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137-3812-4CE0-9165-CB7C2327B66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1C81B-DBEB-4C4E-AAC8-689CA8354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91520" y="7010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54100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0Ohms, - 7deg. Coupled into Wa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marker chosen at peak Conduc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943520" cy="4586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152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I-40 with New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7A0-4E61-4F56-9A7B-EF81DF2FDCA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901BC-2DD8-4189-9F6C-A28B45D99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tput Power Measur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QI-40 units were placed under power, and their output was observed while attached to screens and in water.  Both units seemed to perform identical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testing on a laser vibrometer will be done to look at the output displacement versus input pow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methods for power output measurement will attempted as we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DD5-5513-48DD-B868-E4026E2E56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6A51C-00F1-4229-9DB5-88488CBDF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21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7 Ohms, - 20 deg.  Coupled into 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marker chosen at peak Conduc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648320" cy="463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5 Mhz with K-2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094-1E9D-4F18-AF2E-744034EAABE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01B3C-0E57-4880-9EBD-E2455813B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3 Ohms, - 21 deg.  Coupled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marker chosen at peak Conduc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5 Mhz with New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4962240" cy="470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18-155E-4336-A1A7-E5C025DFDDF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F2D3E-7F88-4C36-9014-EDEFF18081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05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of operation was set at peak conductance using an SRS DS345 function generator with a continuous sine wa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units were powered with an ENI2100L 50 ohm output ampl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Acoustic Power was recorded with a UPM-DT-1 ultrasound power meter in wa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put power was recorded with an HP54645A oscilloscope with voltage and current pro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P Testing Experimental Setu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30D-BA43-4F62-843D-7B6E9025973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6B930-B5EF-4275-9CE5-888F86100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28600" y="228600"/>
          <a:ext cx="8686800" cy="46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66680" y="52578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r relationship as exp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43%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FB3-0A45-4F3F-B7D1-E97D8F15192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EB916-0053-40AF-A5F1-CA72EBE15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51055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r relationship similar to K-2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45%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6ED-A751-4D1F-A14A-62939B28F7F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84695-E0B5-427E-8E6E-140AB76A82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new material is being developed that improves on current Navy I equivalent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w material has equal or better performance in the tested high power transduc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mpedance of the transducers with new material shows a 50% or greater reduction.  This allows for possible better matching to source impedances and improved electrical efficienc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alue should allow for higher displacement at high pow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ceramic may be applicable for high power composites and therapeutic array work, as well as industrial high power applic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20C-14CC-45B0-BAFF-377BB18958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D4B1A-A4BA-4B8A-AEF7-436437F514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ment a new high drive piezoelectric cera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new material’s performance by construction and testing of transduc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son against other commercially available high drive PZ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F9A-C58F-46DF-A890-70DE2882DB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DB2AB-D2BB-44B1-ADE3-FC22806CA2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oustic Power  P=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²k²ε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ZT-based high power piezoceramic formula was developed with the material performance as follow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5800" y="65523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2590920"/>
          <a:ext cx="6553080" cy="144756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914400"/>
                <a:gridCol w="1066680"/>
                <a:gridCol w="17524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 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m *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* k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y Type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 x 10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y Type 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0 x 10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ezotech N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0 x 10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09480" y="5029200"/>
          <a:ext cx="8153640" cy="1208160"/>
        </p:xfrm>
        <a:graphic>
          <a:graphicData uri="http://schemas.openxmlformats.org/drawingml/2006/table">
            <a:tbl>
              <a:tblPr/>
              <a:tblGrid>
                <a:gridCol w="1189080"/>
                <a:gridCol w="1173240"/>
                <a:gridCol w="685800"/>
                <a:gridCol w="609480"/>
                <a:gridCol w="828720"/>
                <a:gridCol w="898560"/>
                <a:gridCol w="1076400"/>
                <a:gridCol w="566640"/>
                <a:gridCol w="11257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lectric Const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C/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n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s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/cm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in Size 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l 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to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8C4-DCE9-439E-BE79-1C9ACF59DA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EC32D-6258-4F3F-ACCE-47CAA402F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ielectric Characteristic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440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3F7-5C2A-4DD7-A0EE-7522B1561B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B2D02-5B0A-4624-AFE3-87E91B23B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eramic Microstru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477120"/>
            <a:ext cx="73152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9880" bIns="298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52680" y="1905120"/>
            <a:ext cx="5181840" cy="4419360"/>
            <a:chOff x="3352680" y="1905120"/>
            <a:chExt cx="5181840" cy="441936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352680" y="1905120"/>
              <a:ext cx="5181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52680" y="609588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2057400"/>
            <a:ext cx="2286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e, uniform grain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 of trans-granular fra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w, small p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F7B-168E-4FEF-BFF2-31407AF87C7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F6797-3B49-4FD0-9329-7348E75FE2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C De-Poling Performance at Room Temperature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293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8620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B20-6F2D-41D5-AF66-9DAD2F111AC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C8476-1C82-44F7-B8F6-FF5273B652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ccelerated Aging Characteristics at 130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º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2514600"/>
          <a:ext cx="4343400" cy="27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343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40766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94A-0C37-42DF-B815-530C1D83F6A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23B0-E317-48EB-A7A5-25D95F2CC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ccelerated Aging Characteristics at 130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º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305080"/>
            <a:ext cx="3962520" cy="2984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4419720" cy="297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282-5584-4976-A120-7CED658E7AC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F9481-50A5-4E75-8D99-D6D79BC99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ducer Test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ransducer models were tested using the new materi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high power device at 40Khz (Etalon QI-40), used typically for ultrasonic cleaning and sieve sha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high power single element transducer at 1.5Mhz, could be used in industrial or medical industr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transducer models were built using Keramos K-270 (Navy Type I equivalent) and the new materi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0C5-0D37-4445-8A72-E2411EF645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E7A8D-5D12-4F26-AE4E-B54C30038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odrag</cp:lastModifiedBy>
  <dcterms:modified xsi:type="dcterms:W3CDTF">2003-04-12T21:36:27Z</dcterms:modified>
  <cp:revision>21</cp:revision>
  <dc:subject/>
  <dc:title>PowerPoint Presentation</dc:title>
</cp:coreProperties>
</file>